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57875"/>
        <c:axId val="46735830"/>
      </c:barChart>
      <c:catAx>
        <c:axId val="947578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35830"/>
        <c:crosses val="autoZero"/>
        <c:auto val="1"/>
        <c:lblAlgn val="ctr"/>
        <c:lblOffset val="100"/>
        <c:noMultiLvlLbl val="0"/>
      </c:catAx>
      <c:valAx>
        <c:axId val="46735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578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265-37FC-4DD2-9876-5D4CB1B3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4FC-1627-41F6-A58B-A6E5F710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8C0-5684-4093-A1F6-A123FBF0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5CC-E25F-4305-A87F-DA699936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54C-8083-4579-975F-21EA9F61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D0F-9F94-4962-A480-F9743E9C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8C6-2B01-43D8-92C2-38E8B49F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689-F827-41FA-9D52-FF09CE3E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CA4-54B3-43D2-B21A-A6B91F40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636-1312-4EDE-8F0F-4CDA3F1F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A51-46DE-4CC4-A9A7-758E2472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EE9-1CC4-40E9-9CB5-64A221F6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9623B-3BCC-4C94-B72E-737E9FDE68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