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51511"/>
        <c:axId val="91302823"/>
      </c:barChart>
      <c:catAx>
        <c:axId val="35151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02823"/>
        <c:crosses val="autoZero"/>
        <c:auto val="1"/>
        <c:lblAlgn val="ctr"/>
        <c:lblOffset val="100"/>
        <c:noMultiLvlLbl val="0"/>
      </c:catAx>
      <c:valAx>
        <c:axId val="91302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51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B15-7B84-44B7-91DF-2C409145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87D-A108-4264-868E-F790C8C6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D95-3BE1-48EE-A131-5357F1DF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14E-07DB-41B7-BED5-7EAC34EF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7C7-08F0-437D-A3D8-F2CC0949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E09-C9EA-4745-9DCE-59CA3FBB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C6B-4470-42B9-B75C-557624A9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727-13D1-4625-877F-3612158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882-7437-48D2-9B3D-2C8CDC85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64A-9BB3-4F7D-93F6-D13754FF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884-700E-423E-9A4D-6C59FFD2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A7B-6535-4E5F-BD36-A9645E3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C2B88-304A-4305-A99D-4AFD390601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