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5197"/>
        <c:axId val="20440681"/>
      </c:barChart>
      <c:catAx>
        <c:axId val="5505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40681"/>
        <c:crosses val="autoZero"/>
        <c:auto val="1"/>
        <c:lblAlgn val="ctr"/>
        <c:lblOffset val="100"/>
        <c:noMultiLvlLbl val="0"/>
      </c:catAx>
      <c:valAx>
        <c:axId val="20440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5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235-4253-420B-A2A3-CAAEE685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677-E022-4E6E-A846-F0F537C0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984-DADA-4BC1-808C-52848DC1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9AB-70FF-44F7-9D8C-E57815CE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B22-EA8E-4F87-A633-4672D6B9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8E0-30B9-471F-B275-E77F3C12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1FE-CE41-45F5-8D70-BA85D92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17A-5B96-437C-8CDF-4FC46C1D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F30-DB6F-4475-83F9-262EA507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7A6-E802-4299-9CEE-2792AB1E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BEA-F933-4029-B40F-43EEC58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495-F8FD-4E07-B426-377DD264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194A7-FD76-497A-8C1A-84301D01C2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