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49095"/>
        <c:axId val="24075373"/>
      </c:barChart>
      <c:catAx>
        <c:axId val="67549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5373"/>
        <c:crosses val="autoZero"/>
        <c:auto val="1"/>
        <c:lblAlgn val="ctr"/>
        <c:lblOffset val="100"/>
        <c:noMultiLvlLbl val="0"/>
      </c:catAx>
      <c:valAx>
        <c:axId val="24075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9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4F4-31ED-4D02-8800-0CE59FEA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6BB-FF34-4EE6-820F-BC22357C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7DD-818E-4C56-8BAA-7561A52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3EB-5115-48F3-AACE-FAC18794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D7B-3371-41EF-B9AE-CD34F1C4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7BF-52AC-49EA-8AC4-B071CE39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9EE-E4E1-4A41-AB76-A095AA30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CCD-86C0-44AA-99A0-BB51CA1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C50-25B8-4BC1-A39E-F995D4F5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4A2-5E70-41D5-B6D1-AE4F673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D62-6FFB-424D-847C-4D13A45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838-0F48-4831-9199-5288C4E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8BB06-362A-48E0-A042-E5080912A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