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25670"/>
        <c:axId val="94127083"/>
      </c:barChart>
      <c:catAx>
        <c:axId val="88825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27083"/>
        <c:crosses val="autoZero"/>
        <c:auto val="1"/>
        <c:lblAlgn val="ctr"/>
        <c:lblOffset val="100"/>
        <c:noMultiLvlLbl val="0"/>
      </c:catAx>
      <c:valAx>
        <c:axId val="94127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25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7CC-9B25-498C-88CC-6A63AE9A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2EF-ED1E-495A-A105-BA6A08A5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66B-4E0B-4BBC-9F91-88ECC7A2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37B8-03A8-4C3C-9F53-6476E0EF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09E-30AC-43F3-8035-4D8C5861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BF5-9A0E-4F95-B105-47C3D97C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A2F-C36D-4260-A5D0-FD65FCD1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6F4-EFEB-412A-9498-07CBD4B0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76F-587F-4FAA-91C8-C02362D4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808-173B-4CAC-8300-40A66BA5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EFE-26FC-479D-9B7D-4DA94A2C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854-13A1-489C-84E8-D6E49766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23B43-EDD5-4A0D-B906-F20FE3349A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