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931869"/>
        <c:axId val="74815430"/>
      </c:barChart>
      <c:catAx>
        <c:axId val="799318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15430"/>
        <c:crosses val="autoZero"/>
        <c:auto val="1"/>
        <c:lblAlgn val="ctr"/>
        <c:lblOffset val="100"/>
        <c:noMultiLvlLbl val="0"/>
      </c:catAx>
      <c:valAx>
        <c:axId val="74815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318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0F19-8941-47CE-BADF-627CFEC7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ECB3-FD93-4BC6-9A24-6BB655A8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A7E-E8B0-4672-8883-511E68F8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5EE-1123-4587-8606-79F4F13F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8ED9-D369-4A33-83D3-1A084BA5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E4F4-841D-4D8A-B166-0DF556D6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1E4-7B8D-4AD9-93D5-8F8BF5A6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324-72D2-4C7D-8745-B42B125F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0243-9EBD-4B20-A948-A28A6A35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2BBA-E680-4512-8D11-541C517D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1E5-8A30-4262-B8E4-7AAF2F61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9E5-CB91-40B1-9A5F-4A304816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C26E6-9C3C-49AF-9E91-93C85E8BF5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