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11755"/>
        <c:axId val="67790877"/>
      </c:barChart>
      <c:catAx>
        <c:axId val="87111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90877"/>
        <c:crosses val="autoZero"/>
        <c:auto val="1"/>
        <c:lblAlgn val="ctr"/>
        <c:lblOffset val="100"/>
        <c:noMultiLvlLbl val="0"/>
      </c:catAx>
      <c:valAx>
        <c:axId val="67790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11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107-450E-4575-8635-7A0C5D94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A71-67A3-45FF-821F-E755CBB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00E-51BD-4FC6-87AB-FC425E17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69B-5D05-428F-8DC1-F7F00F4E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96C-375A-402F-841F-D8672CC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0B2-E9AB-4859-859D-CDD9B4E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9E5-284E-4A68-86D6-5C19042B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6DF-7F52-4CC8-B6C7-21A1086E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D0B-18D2-416B-93C4-821722C9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119-52A0-4630-AA4E-6ECF2F3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B07-276B-46CE-B53E-23CE805A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70D-E521-4D70-B096-9C12D6E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B85E9-6897-4156-95E8-B1C178E15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