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22551"/>
        <c:axId val="9505959"/>
      </c:barChart>
      <c:catAx>
        <c:axId val="59222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5959"/>
        <c:crosses val="autoZero"/>
        <c:auto val="1"/>
        <c:lblAlgn val="ctr"/>
        <c:lblOffset val="100"/>
        <c:noMultiLvlLbl val="0"/>
      </c:catAx>
      <c:valAx>
        <c:axId val="9505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2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169-190B-4DE7-953B-B9A90F59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A52-2D1D-42CC-9ACE-584DF707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3FE-0DAE-4C6B-BC49-51A3006E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648-7EAC-4208-A938-326E8413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B9F-EA53-486F-95F8-8041AB5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55E-4B93-49A9-847C-859E50DB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B33-9890-4552-84A4-BDB4934A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E41-F5E7-4869-9D8A-C9B9C8E4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6D8-C528-4E65-9688-2CE1A4A5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805-1FEB-4267-815D-E1B1E9E5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637-5E2A-4E20-B5FD-D602663E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4C0-F6D2-4FD9-9FA4-4CA07217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0BA2-939B-4B21-B6EC-232A65228A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