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30020"/>
        <c:axId val="27573200"/>
      </c:barChart>
      <c:catAx>
        <c:axId val="21030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73200"/>
        <c:crosses val="autoZero"/>
        <c:auto val="1"/>
        <c:lblAlgn val="ctr"/>
        <c:lblOffset val="100"/>
        <c:noMultiLvlLbl val="0"/>
      </c:catAx>
      <c:valAx>
        <c:axId val="27573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0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A2B-09E8-41A8-9023-5D5CCB0D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A35-CD2D-485F-B879-5E106A7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3DD-6A8C-4A55-97CE-17A183D8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061-B8D2-4630-99A3-DC263A5B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832-671A-4615-9978-17A3B95D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F7E-5D80-4941-869E-41CC7B4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18E-8C5D-4045-9D5F-77A9C01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F9E-4C38-4081-8D6B-0A6D1DA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8C0-CB16-4533-AB44-7A2C5F0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252-337E-48A9-A92B-30F1EEF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353-8084-43A4-BB48-E52EF0A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01A-F456-4877-A024-A0403BB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F0F50-6F8E-4D16-BCFF-2E5E26A41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