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01201"/>
        <c:axId val="99254996"/>
      </c:barChart>
      <c:catAx>
        <c:axId val="260012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54996"/>
        <c:crosses val="autoZero"/>
        <c:auto val="1"/>
        <c:lblAlgn val="ctr"/>
        <c:lblOffset val="100"/>
        <c:noMultiLvlLbl val="0"/>
      </c:catAx>
      <c:valAx>
        <c:axId val="99254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012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61F-1421-428E-A8AC-E1E9994B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390-A0BB-445D-8580-5FCB2B45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2A76-ECA7-457F-849D-AAA93F0C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A4A8-F4AA-4A22-9D8E-293E569E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4E9-22FE-4462-AA20-1901D7A2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B62-FD83-47EB-964B-E7201706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044C-6984-45E4-ACAA-A52926DD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AA7-6465-40D4-821B-363D574B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5292-F15A-4DE6-9008-1E2003BB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600-E16D-4A36-A635-FC6F1A51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C1FC-721B-4E6B-B17F-614B62DD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0E45-6EDD-40DF-933E-85E4A982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B27B5-39C0-44A0-80B5-1D8EC3B45C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