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780880"/>
        <c:axId val="87999452"/>
      </c:barChart>
      <c:catAx>
        <c:axId val="327808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99452"/>
        <c:crosses val="autoZero"/>
        <c:auto val="1"/>
        <c:lblAlgn val="ctr"/>
        <c:lblOffset val="100"/>
        <c:noMultiLvlLbl val="0"/>
      </c:catAx>
      <c:valAx>
        <c:axId val="879994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808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3231-C779-456F-B12E-ABCB95FB0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6C13-F42C-4240-BCE7-205D8E92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D347-5861-4969-8AB1-92C6C90F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EB9D-0430-43B6-BE42-CB085FF7A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0356-B481-4FBC-9524-93EDCB4A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81C8-1EFA-4582-81F6-E2A7BD4B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721A-2737-42D2-855E-1BE883A9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D033-1AEF-4036-BD1C-90942033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C2B4-FDAD-43DE-804F-2FFCDBEE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094C-74B4-43C1-B662-97AC4C32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D217-377E-452A-9FC9-517F1A9D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863E-F871-43DD-B013-900CAF93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5E6A5-35CF-4C05-9AAB-8F5B032380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