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30889"/>
        <c:axId val="93022824"/>
      </c:barChart>
      <c:catAx>
        <c:axId val="87930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022824"/>
        <c:crosses val="autoZero"/>
        <c:auto val="1"/>
        <c:lblAlgn val="ctr"/>
        <c:lblOffset val="100"/>
        <c:noMultiLvlLbl val="0"/>
      </c:catAx>
      <c:valAx>
        <c:axId val="930228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30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44C-6D21-42BF-816E-2B502EFF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939-9A73-44DE-B629-032FE072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F1D9-A9AD-4114-9256-026A16436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29CD-682F-4019-B6FD-CED9D0FAD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3F2-2BD8-467E-A8B2-CF03CA24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186-43B1-40A8-AC38-5DEA83C7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E8C-6454-403E-9A7B-D7663CC5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553-6512-4BF9-8AC8-AC3688AB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BA7-BB96-44F3-9311-B8ACAAE3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8277-C65D-4085-B6B9-60DDD08B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2485-1807-4A56-B4DA-BB9DF33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A676-A007-4BF5-89C5-29B7DAF7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BD827-9179-41C8-8EEB-34F380AE5A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