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79842"/>
        <c:axId val="36447408"/>
      </c:barChart>
      <c:catAx>
        <c:axId val="72779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47408"/>
        <c:crosses val="autoZero"/>
        <c:auto val="1"/>
        <c:lblAlgn val="ctr"/>
        <c:lblOffset val="100"/>
        <c:noMultiLvlLbl val="0"/>
      </c:catAx>
      <c:valAx>
        <c:axId val="36447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79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2BC-A5C1-421F-B333-73FE58EE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F74-A7A2-45C3-971D-20874337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FC3-1B67-4422-9716-3C6D1818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307-5F2E-4EBF-82A9-075776D6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BCA-943C-491D-961B-66BA86C7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915-727C-4477-AE40-C318281E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018-7D3E-4262-9411-28087AA1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E56-B9C3-41AC-8429-D4A00046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4B1-3DF3-47A5-99C9-CD2CAA7F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934-1661-492C-B700-4A202329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891-63F4-44C8-975C-98DDACE7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CD0-1582-4471-9496-745FC76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311DD-BA60-4620-B085-0F8333E0CB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