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98637"/>
        <c:axId val="99720069"/>
      </c:barChart>
      <c:catAx>
        <c:axId val="83398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20069"/>
        <c:crosses val="autoZero"/>
        <c:auto val="1"/>
        <c:lblAlgn val="ctr"/>
        <c:lblOffset val="100"/>
        <c:noMultiLvlLbl val="0"/>
      </c:catAx>
      <c:valAx>
        <c:axId val="99720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98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F9C-F0EF-499C-8ACE-D30F5685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003-F5C3-481A-AAD3-7A5E9112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CEE-790A-48FF-97E9-95E38292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1AD-57AA-4AFC-94E7-5D8C1E46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EE1-55E9-4EF7-B975-3FCAE9C8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E43-4C9C-4BC8-96DD-22017A9C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23B-FD82-44B6-AA98-D18AA4B8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96D-6562-4931-8B90-15A09654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C1D-18EA-414F-A08C-3E626512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812-0456-4CF2-BDCB-20B216D9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710-A5AA-4970-8219-657297F4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576-92C7-4211-A912-5890BD54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D5D94-964C-46EF-AB04-963D2AFCED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