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006187"/>
        <c:axId val="27469949"/>
      </c:barChart>
      <c:catAx>
        <c:axId val="780061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69949"/>
        <c:crosses val="autoZero"/>
        <c:auto val="1"/>
        <c:lblAlgn val="ctr"/>
        <c:lblOffset val="100"/>
        <c:noMultiLvlLbl val="0"/>
      </c:catAx>
      <c:valAx>
        <c:axId val="27469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061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DBB8-8517-4951-9300-6CFF2929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434-441A-426F-86FC-FB8E8B90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677-C5B4-4C62-9D2C-8DC094C3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47F-CB14-4E90-8784-D580F9E3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0B5-F98D-429B-93EE-13278218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1269-FA38-4A11-97A4-2301F8B7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81E6-4A44-4F3D-BF6B-DA24BD1E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13A3-13E9-4083-8010-7FF5FB99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4E96-1CEF-4CA0-9A0C-734C78E7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E8CD-C430-400B-A9A5-56524CB2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7AA-25DC-404C-867C-01AFAC31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112B-2061-4331-BFFD-ED6E03DF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A56BA-0C27-4DBB-BE06-2E1FA5449B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