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15920"/>
        <c:axId val="79295010"/>
      </c:barChart>
      <c:catAx>
        <c:axId val="23415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95010"/>
        <c:crosses val="autoZero"/>
        <c:auto val="1"/>
        <c:lblAlgn val="ctr"/>
        <c:lblOffset val="100"/>
        <c:noMultiLvlLbl val="0"/>
      </c:catAx>
      <c:valAx>
        <c:axId val="79295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15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BF87-3360-4792-9EC1-2A356BAB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47E-8D31-4966-A256-7AE1BB0B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F2E-0049-4774-A4EA-C8894499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944-E438-488D-B36E-A18F60A5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05C-12FD-4755-A821-F2906846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73A-360C-4541-AB57-B38050C7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008-8ED1-46AC-BC25-879DA17B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A22-1D4F-4B04-A0FD-34C3F80A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868-D8F2-4BC6-A8EE-3DC0158C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B45-C558-4291-BF06-1221CA88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2A4-D0A9-40D1-BA76-4CE0CC23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4A6E-0B79-4845-BBB0-D8459857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619C4-4868-4F0C-A3B6-F752AAA2D4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