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9401"/>
        <c:axId val="57445410"/>
      </c:barChart>
      <c:catAx>
        <c:axId val="4429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45410"/>
        <c:crosses val="autoZero"/>
        <c:auto val="1"/>
        <c:lblAlgn val="ctr"/>
        <c:lblOffset val="100"/>
        <c:noMultiLvlLbl val="0"/>
      </c:catAx>
      <c:valAx>
        <c:axId val="57445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9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11C-1D21-41CD-AC84-B4E74DA6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222-BD8B-418B-B553-CBF82B1F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CDB-D1A5-45AD-93CF-49704CA7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26F-90A7-4290-85F0-2180CADB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2AB-B5BC-49AA-86E3-0C8BF7DD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D5B-1858-45F2-9466-1A95845D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401-A7DE-4E22-8BA1-DE269796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ACE-0A3D-495D-93E8-A0A7BA9D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668-2717-4284-8C73-88DF0D67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008-FB13-4A75-A8F0-FBE84AC1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952-E218-460D-9606-72513378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4C9-56C6-4658-AF0C-2FC43CC4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86BB4-AB1D-4188-B635-832359B808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