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27953"/>
        <c:axId val="71843523"/>
      </c:barChart>
      <c:catAx>
        <c:axId val="70127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43523"/>
        <c:crosses val="autoZero"/>
        <c:auto val="1"/>
        <c:lblAlgn val="ctr"/>
        <c:lblOffset val="100"/>
        <c:noMultiLvlLbl val="0"/>
      </c:catAx>
      <c:valAx>
        <c:axId val="71843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27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80F-3467-4E73-83B8-AC87B4C7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25E-B695-4B60-A642-205E4CE8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E00-CB55-4966-A55F-A1794027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B44-7116-4F8F-A549-0AABBEB5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1F6-363C-4387-95A1-2A3F0297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269-E6AC-4128-BD4C-FD2EFC77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5D2-381E-4374-BFD9-493B67E9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262-D059-4F4C-BC2E-0A5C06F8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584-E15E-4E99-BE51-490E4469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8B1-5514-46F0-9FB7-6A9FFF0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72C-A511-4F67-876A-8D87BCA4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069-566F-4C6B-8547-0999F89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5EBB0-1ACA-4757-8F87-5575316E09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