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469"/>
        <c:axId val="32847258"/>
      </c:barChart>
      <c:catAx>
        <c:axId val="8455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47258"/>
        <c:crosses val="autoZero"/>
        <c:auto val="1"/>
        <c:lblAlgn val="ctr"/>
        <c:lblOffset val="100"/>
        <c:noMultiLvlLbl val="0"/>
      </c:catAx>
      <c:valAx>
        <c:axId val="3284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822-AB1D-416F-8998-83B011DB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D98-11CA-43AF-8178-0D01160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CC5-1884-4B70-937E-CF96A85D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09C-F744-41A4-806B-C5D76382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AF0-F065-4D21-8329-35C01AA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FB5-8A1A-4217-90D2-8F7D1F3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D38-F1F5-4BBA-93BC-E0E3D915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ED5-C207-4541-9BF8-3679475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7F8-1B68-451A-A332-953EBF4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73B-F35D-45DF-A07C-445838D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972-C1C3-443B-A2CD-634CC38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857-0ADC-4CF8-809A-A07F2AA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2E9CF-9BFE-4DC4-996E-7A79912BBF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