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71059"/>
        <c:axId val="96999253"/>
      </c:barChart>
      <c:catAx>
        <c:axId val="52271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99253"/>
        <c:crosses val="autoZero"/>
        <c:auto val="1"/>
        <c:lblAlgn val="ctr"/>
        <c:lblOffset val="100"/>
        <c:noMultiLvlLbl val="0"/>
      </c:catAx>
      <c:valAx>
        <c:axId val="96999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71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4ED-B957-470C-AEA2-84922C5F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D7A-D5BF-4AF5-84FB-4AE3F5D8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F30-042B-41D0-9CB6-4AAB9C47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CAD-4636-4B53-A5AA-03547D20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24E-BCE2-4E36-862D-8CC7B105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167-9E3F-4298-8F63-90B9813F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A11-0CC2-4FAD-92EF-0446055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730-8A0B-41C0-BC24-5EB92C9B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40B-8400-4F52-9C20-CE999CBB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956-22CA-40AC-9760-52E7C253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A12-9F07-4307-9262-6936CDC5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13D-D95F-4347-BCFB-2A39044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BCACF-A057-48F6-969B-999EF48C37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