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53902"/>
        <c:axId val="46161190"/>
      </c:barChart>
      <c:catAx>
        <c:axId val="68553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61190"/>
        <c:crosses val="autoZero"/>
        <c:auto val="1"/>
        <c:lblAlgn val="ctr"/>
        <c:lblOffset val="100"/>
        <c:noMultiLvlLbl val="0"/>
      </c:catAx>
      <c:valAx>
        <c:axId val="461611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53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8AD-CD1E-4D09-B7AE-992034FF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A3E-608B-48D5-A14A-516A6A57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BD2-E5C4-4252-9005-89692DCF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8D88-FDB4-48B0-9C37-73D9CAE6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036B-9B31-48AF-89FD-E1838BB1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4B66-4BB9-4D17-A1D4-B423199E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943-596E-4EAF-A78F-22F6F020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2DDD-044B-4BEF-95FA-F48E8B02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9D04-8853-45DF-9D34-2CBBB202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94F0-BC30-47C5-AD01-FD6FA166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6DE2-4982-44A5-ABBE-9AC18852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C040-5181-4427-A3C1-503B4116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6FA99-DFB6-4E54-B2B8-A5F750FE4A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