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04286"/>
        <c:axId val="64406208"/>
      </c:barChart>
      <c:catAx>
        <c:axId val="53804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06208"/>
        <c:crosses val="autoZero"/>
        <c:auto val="1"/>
        <c:lblAlgn val="ctr"/>
        <c:lblOffset val="100"/>
        <c:noMultiLvlLbl val="0"/>
      </c:catAx>
      <c:valAx>
        <c:axId val="64406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04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DED-A6AE-47CF-8747-B738B4BA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D59-0FEA-4677-AC3A-7E4EEF6B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9CB-2058-42A7-A7C7-9115547A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549-AC6B-46CB-ACE9-5AA9AA7A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FDF-7B46-4F67-B5B3-8316A49E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DCC-000C-4524-9561-AF786F0B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79B-C5F5-4E23-BC3A-B2C90630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EC3-05DB-4ABA-8CEB-335306C6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E5F-B13B-4361-971B-88C3943B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38E-379D-43C0-895D-B8144A3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723-1A6A-4EBF-9CE2-6D890261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193-DF05-4C90-AED3-4A276CE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8C787-B04E-4974-9B4D-74927EDF1D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