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01613"/>
        <c:axId val="63703319"/>
      </c:barChart>
      <c:catAx>
        <c:axId val="82101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03319"/>
        <c:crosses val="autoZero"/>
        <c:auto val="1"/>
        <c:lblAlgn val="ctr"/>
        <c:lblOffset val="100"/>
        <c:noMultiLvlLbl val="0"/>
      </c:catAx>
      <c:valAx>
        <c:axId val="63703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01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795-63C1-4E87-A9D2-FAA623F2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BB9D-634A-40F1-B9A8-05CA9EB7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8D6-A413-4CB5-A418-FAA8BEBB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C54-75CF-450E-BE99-53231A43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60A-3569-4315-87AB-40E46849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89E-00F0-4C0F-AF0B-6A333300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0A9-B7AA-4026-9907-0237B7DB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CA7-4536-49E4-8DAF-29444635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B70-76B6-4796-ACE0-4E1FFBF6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323-184E-482C-8EAD-A84258B4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999-5646-41DC-AE23-39DB44A5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001-6C23-4346-822E-EE54576A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0FA07-4D2C-49AB-9AB0-9D4A830B53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