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84223"/>
        <c:axId val="63698536"/>
      </c:barChart>
      <c:catAx>
        <c:axId val="23884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8536"/>
        <c:crosses val="autoZero"/>
        <c:auto val="1"/>
        <c:lblAlgn val="ctr"/>
        <c:lblOffset val="100"/>
        <c:noMultiLvlLbl val="0"/>
      </c:catAx>
      <c:valAx>
        <c:axId val="6369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84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298-EF92-4895-B278-AD74ABEA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F31-D972-4DE5-A3DE-C2EB5BD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2AF-EAB7-47B1-81E9-F11735BB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5C7-F7D1-45AE-BBDF-E37BF9CE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3F5-A26E-482E-9E21-1289C4A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236-F26A-4FF6-B139-49C8892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B8D-8418-46B8-BB61-61DFAEC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595-04B2-4DCD-AD5F-460157E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168-848A-4F34-ADF0-1E54B42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A77-18AB-4C87-9796-2714F854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908-D52B-47AE-8AA4-C49FB8B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233-6801-45E0-A2EB-11BCB96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EF37E-C342-48CB-A4A3-AE424015A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