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87810"/>
        <c:axId val="95456399"/>
      </c:barChart>
      <c:catAx>
        <c:axId val="84787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56399"/>
        <c:crosses val="autoZero"/>
        <c:auto val="1"/>
        <c:lblAlgn val="ctr"/>
        <c:lblOffset val="100"/>
        <c:noMultiLvlLbl val="0"/>
      </c:catAx>
      <c:valAx>
        <c:axId val="95456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7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FAC-8C13-4C83-BB8A-236AABE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E50-4652-4DCE-A14C-1DD7455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EAF-AC7C-405D-B84F-430B5AD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956-DE16-4C25-BFFD-7E1DA2A5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A49-36B8-4017-8FAD-C43AEA97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4C6-EA9D-4988-B252-6714002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791-D3F7-4E38-B54C-6C8C3969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F4-1AF2-4581-80EC-07BC81D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A63-7276-4657-A4B2-CB704C1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F07-155D-4714-80EA-2BD3F5E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889-F5CD-4374-BA64-A1661E2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B36-2013-4829-B6AA-8D41B2E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17AE8-7371-4A6D-B5AC-CB8BB6B70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