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5470"/>
        <c:axId val="54724854"/>
      </c:barChart>
      <c:catAx>
        <c:axId val="1485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4854"/>
        <c:crosses val="autoZero"/>
        <c:auto val="1"/>
        <c:lblAlgn val="ctr"/>
        <c:lblOffset val="100"/>
        <c:noMultiLvlLbl val="0"/>
      </c:catAx>
      <c:valAx>
        <c:axId val="54724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DB9-1C5B-4B76-8AEC-8DCF98F3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7E4-7AEB-4545-BEE3-B0A9CE6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A8B-E4A3-49CA-9FAC-F45B5F44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74E-883F-49B8-9720-93A1C245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EA5-4EE9-4F8C-9AAE-7E4E9759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123-CC18-415A-B53B-5DEB2B43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099-04F1-4021-8D53-1354FB8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02F-6354-443C-865F-0EAB855A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125-44D6-4005-B53A-2876851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CE3-6792-4B3C-A02A-F6C3514E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CF4-FDD8-48EF-B594-5638030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B2E-3D81-484A-81F4-EB87016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7C9A6-7080-4A71-9312-7A7B5C1E76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