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9561"/>
        <c:axId val="56052040"/>
      </c:barChart>
      <c:catAx>
        <c:axId val="2719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52040"/>
        <c:crosses val="autoZero"/>
        <c:auto val="1"/>
        <c:lblAlgn val="ctr"/>
        <c:lblOffset val="100"/>
        <c:noMultiLvlLbl val="0"/>
      </c:catAx>
      <c:valAx>
        <c:axId val="56052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9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99E-28CA-412B-ADE1-2F7CF64B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5E8-4E1B-4A40-9DD3-484BD6DE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DEA-E9DE-4C61-870C-637B8C17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1FF-3139-48B1-A0C6-9B90C8BF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7B0-3E7A-43D4-B831-8438AB8B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FCA-F4D8-4EF1-A1BF-DFC2C52A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45E-0A0A-48EB-B5A0-68134ED2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19E-65DE-4A9F-9DAC-197C238B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772-63A2-4A88-9788-1AE993C6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A8A-5FAB-4C8C-B6F5-068F5E44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7DC-168E-4932-9871-7C806CC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A2B-457B-40EE-8138-86C87DBF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86260-1F88-4D2C-8FAB-2DA1FD3EE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