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291136"/>
        <c:axId val="72285457"/>
      </c:barChart>
      <c:catAx>
        <c:axId val="562911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85457"/>
        <c:crosses val="autoZero"/>
        <c:auto val="1"/>
        <c:lblAlgn val="ctr"/>
        <c:lblOffset val="100"/>
        <c:noMultiLvlLbl val="0"/>
      </c:catAx>
      <c:valAx>
        <c:axId val="722854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911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2D21-8E53-459C-8D42-2E2FF751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E73E-7472-4FFE-878F-A3E33868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AB10-AE85-4F4D-BF0A-F818DC39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CC4A-0332-4E7A-8321-B3005990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FA90-6090-4E7F-A1E4-85FA3326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1788-74C2-4CA6-82D2-470DDFCB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8F5B-34CA-4404-BD15-54AAFFFC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EFC5-AD5D-4B0E-AD93-73C5C56A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C722-DFA1-4F46-8C70-20BC1BC8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051A-3570-47C3-95A6-EEDD9471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612E-8297-42CB-814D-FC4CE531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9F41-224A-4C35-9BF5-A7B61FAE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A1320-239C-4155-8219-18E5FAD4FB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