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28735"/>
        <c:axId val="58044964"/>
      </c:barChart>
      <c:catAx>
        <c:axId val="52628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44964"/>
        <c:crosses val="autoZero"/>
        <c:auto val="1"/>
        <c:lblAlgn val="ctr"/>
        <c:lblOffset val="100"/>
        <c:noMultiLvlLbl val="0"/>
      </c:catAx>
      <c:valAx>
        <c:axId val="58044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28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5E4-B301-4074-A6B1-52AC6F10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DA6-A687-4C1B-88C3-FCB223BD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5B2-FE99-4A99-B6AA-E29A02E1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BE64-E7E7-4D87-AAB5-BFE88DDE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E70-76A9-4C68-BAFF-6824FC15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AC6-7EF6-4DE3-8EAA-1B9B218F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8865-6CFA-40AE-94C9-1F1C93B1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CC6-57FE-4FA4-B1DF-C6E193E5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5DA-ED8F-43CF-B87A-6AFD23C0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389-2509-45F6-8156-177AA723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72E-B2AB-4E78-9CD9-80111D8E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6AE-AC25-40E0-9010-D00E94C7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142AC-794F-4E85-9148-59473F0B74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