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962939"/>
        <c:axId val="66963690"/>
      </c:barChart>
      <c:catAx>
        <c:axId val="129629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63690"/>
        <c:crosses val="autoZero"/>
        <c:auto val="1"/>
        <c:lblAlgn val="ctr"/>
        <c:lblOffset val="100"/>
        <c:noMultiLvlLbl val="0"/>
      </c:catAx>
      <c:valAx>
        <c:axId val="669636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629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E5CC-0958-4C45-BB60-FEE9D7095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F2BC-E2DF-4F7A-87E7-91D05717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689B-66A5-4002-95C9-2CCCA246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1E7B-9045-40EF-9790-92D1F6F18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6839-DAC8-4D5E-988A-959CF2E5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A59A-26F0-4C5F-B6CE-E1FBEA05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A62E-35D0-4896-9487-3EFF94A6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3B9D-1BBC-4699-88D6-443845F4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500B-C486-4B5A-A8E7-723FC7FE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347E-BFBD-4782-A270-A06F7009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A8BD-D16F-43F2-AEA8-8BE0F258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32DF-7EC6-463E-AEC4-CEDE4AA0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AC3D4-59F6-42B3-A53B-D4E52274F1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