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29628"/>
        <c:axId val="94650528"/>
      </c:barChart>
      <c:catAx>
        <c:axId val="56629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50528"/>
        <c:crosses val="autoZero"/>
        <c:auto val="1"/>
        <c:lblAlgn val="ctr"/>
        <c:lblOffset val="100"/>
        <c:noMultiLvlLbl val="0"/>
      </c:catAx>
      <c:valAx>
        <c:axId val="94650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9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F85-3666-4933-A8A6-A7853F63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FDF0-2A74-4923-B91D-4CEC994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DFD7-2F4A-4BE5-8602-C8C99F63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411-5CB7-4F1D-B0C5-96D54B87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69B-9BA8-43DB-B84C-1D33267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00D-6940-42F6-95B1-AD68323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BC6-99A9-4376-9CDC-C516A65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7C0-4686-420B-8AEB-8B97D15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B33-BFBF-4900-B38E-8019F55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D2A-EAE9-43A8-85C8-32D7742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88A-1B34-4A3C-A6E1-2088828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058-DF38-4455-AD71-CD011276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AE99D-E3E9-4DB4-A4BA-AF69039DF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